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5.wmf" ContentType="image/x-wmf"/>
  <Override PartName="/ppt/media/image15.png" ContentType="image/png"/>
  <Override PartName="/ppt/media/image9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6.wmf" ContentType="image/x-wmf"/>
  <Override PartName="/ppt/media/image11.png" ContentType="image/png"/>
  <Override PartName="/ppt/media/image29.wmf" ContentType="image/x-wmf"/>
  <Override PartName="/ppt/media/image12.png" ContentType="image/png"/>
  <Override PartName="/ppt/media/image34.jpeg" ContentType="image/jpeg"/>
  <Override PartName="/ppt/media/image40.wmf" ContentType="image/x-wmf"/>
  <Override PartName="/ppt/media/image28.png" ContentType="image/png"/>
  <Override PartName="/ppt/media/image7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8.jpeg" ContentType="image/jpeg"/>
  <Override PartName="/ppt/media/image38.png" ContentType="image/png"/>
  <Override PartName="/ppt/media/image41.wmf" ContentType="image/x-wmf"/>
  <Override PartName="/ppt/media/image39.wmf" ContentType="image/x-wmf"/>
  <Override PartName="/ppt/media/image3.png" ContentType="image/png"/>
  <Override PartName="/ppt/media/image26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212263" cy="6980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CA1-0973-4355-937F-99235433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2A1-0631-4B21-A8AA-288EE03B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746-462F-4BBC-8B07-F9BFF982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E64-8A96-4052-BF1B-27FE6878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0366-AA76-41D5-A77B-8DB93D76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1C53-3E0C-4F50-889B-0208C06F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EFC1-3280-42CC-8B8D-BD1EEDE9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6A16-34CA-448C-A7D5-90F418B4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F509-D4E8-4366-A8EE-FE3A01D4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7F39-12AB-43E9-825A-568B013D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3A72-FC65-4B05-BB0E-1EB7FD1C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F4A-820C-4620-96D5-31EB1504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F836-D66A-4ED4-BAD0-4428F94A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C2DE-CCA9-4811-ABEF-C70C6BEA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FE0F-8434-49F0-9AEA-D5E7ECC6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235A-E8A0-4A7F-A202-69AFD061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A7BA-19E6-4BCC-BF3C-FBE45D2C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6249-F7C7-4239-BD74-FC9005B1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2B3-723C-423E-BABB-EF4C03E7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E2A-F15A-4E0C-9372-0E103679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AA7-8075-4FF8-AF2C-395EAC70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D84-3262-4BF1-9C6A-9D5BB199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6A62-AEB0-40F7-9D03-E33BC942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B1F-A1F4-4941-9907-74425A13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C74E-6D4A-4043-8682-4A2F6DBAA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b5481"/>
                </a:gs>
                <a:gs pos="100000">
                  <a:srgbClr val="5173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17398"/>
                </a:gs>
                <a:gs pos="100000">
                  <a:srgbClr val="2b54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9F2C-57C1-4CBB-BE23-6F4D7D89EA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uhsd.net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Cajon Valley High School Guidance Depart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Georgia"/>
              </a:rPr>
              <a:t>BE BRAVE</a:t>
            </a:r>
            <a:endParaRPr b="0" lang="en-US" sz="88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3048120" y="457200"/>
            <a:ext cx="3200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Arial"/>
              </a:rPr>
              <a:t>COURSE PLANNER</a:t>
            </a:r>
            <a:endParaRPr b="0" lang="en-US" sz="5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19320" y="54097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t your finger tips from any computer with internet acc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15" descr="C:\Documents and Settings\Vsliwa\Local Settings\Temporary Internet Files\Content.IE5\L5R3O6VT\MP900409652[1].jpg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2012-2013 Course Selections</a:t>
            </a:r>
            <a:br>
              <a:rPr sz="3600"/>
            </a:b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using </a:t>
            </a:r>
            <a:r>
              <a:rPr b="0" i="1" lang="en-US" sz="2800" spc="-1" strike="noStrike">
                <a:solidFill>
                  <a:srgbClr val="e5ffff"/>
                </a:solidFill>
                <a:latin typeface="Arial"/>
              </a:rPr>
              <a:t>Career Cruising’s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5ffff"/>
                </a:solidFill>
                <a:latin typeface="Arial"/>
              </a:rPr>
              <a:t>COURSE PLANNER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Course Planner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ect your courses for next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 your high school education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 courses you have completed, are currently taking or plan to take in the fu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 A-G course requirements and check your completion stat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 NCAA requirements and check your completion stat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Access Career Cruising and Course Planner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3712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o to </a:t>
            </a:r>
            <a:r>
              <a:rPr b="0" lang="en-US" sz="26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www.guhsd.ne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lect the students tab and click on the             link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gin with your username and passwor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rname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C-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Your ID #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word: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puter log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You will go to you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ortfolio Homepag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on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from the list on the lef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and side of the scre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6705720" y="1905120"/>
            <a:ext cx="1218960" cy="349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3"/>
          <a:stretch/>
        </p:blipFill>
        <p:spPr>
          <a:xfrm>
            <a:off x="2209680" y="4648320"/>
            <a:ext cx="1981440" cy="368280"/>
          </a:xfrm>
          <a:prstGeom prst="rect">
            <a:avLst/>
          </a:prstGeom>
          <a:ln w="0">
            <a:noFill/>
          </a:ln>
        </p:spPr>
      </p:pic>
      <p:pic>
        <p:nvPicPr>
          <p:cNvPr id="222" name="Content Placeholder 17" descr="Portfolio.png"/>
          <p:cNvPicPr/>
          <p:nvPr/>
        </p:nvPicPr>
        <p:blipFill>
          <a:blip r:embed="rId4"/>
          <a:stretch/>
        </p:blipFill>
        <p:spPr>
          <a:xfrm>
            <a:off x="4876920" y="3581280"/>
            <a:ext cx="38862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Course Planner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You will be focusing on the upcoming school year in the </a:t>
            </a:r>
            <a:r>
              <a:rPr b="0" lang="en-CA" sz="2200" spc="-1" strike="noStrike">
                <a:solidFill>
                  <a:srgbClr val="ffffff"/>
                </a:solidFill>
                <a:latin typeface="Tahoma"/>
              </a:rPr>
              <a:t>dashed box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is example it is Year 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Year 9 includes courses, grades and credits completed as well as courses in progres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n the far right, you will see a credit summary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elow that are recommended CLUSTERS or PATHWAYS based on your Career Matchmaker results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Content Placeholder 7" descr="Course Planner.png"/>
          <p:cNvPicPr/>
          <p:nvPr/>
        </p:nvPicPr>
        <p:blipFill>
          <a:blip r:embed="rId1"/>
          <a:stretch/>
        </p:blipFill>
        <p:spPr>
          <a:xfrm>
            <a:off x="4495680" y="1752480"/>
            <a:ext cx="4421160" cy="4503960"/>
          </a:xfrm>
          <a:prstGeom prst="rect">
            <a:avLst/>
          </a:prstGeom>
          <a:ln w="0">
            <a:noFill/>
          </a:ln>
        </p:spPr>
      </p:pic>
      <p:cxnSp>
        <p:nvCxnSpPr>
          <p:cNvPr id="226" name="Straight Arrow Connector 12"/>
          <p:cNvCxnSpPr/>
          <p:nvPr/>
        </p:nvCxnSpPr>
        <p:spPr>
          <a:xfrm flipH="1" flipV="1">
            <a:off x="6247800" y="5257080"/>
            <a:ext cx="229320" cy="153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quired Courses (Yellow Slot)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7960" y="4114440"/>
            <a:ext cx="4343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l courses available to fulfill the requirement are in yellow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over over any course to review the description &amp; prerequisit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lick the plus ‘+’ icon next to the course you want to select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560" y="1219320"/>
            <a:ext cx="4190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lick on the Course Planner tab &amp; begin selecting cours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add a required course, click the plus ‘+’ icon that appears on the right of any yellow slo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Content Placeholder 11" descr="English 3 selection.png"/>
          <p:cNvPicPr/>
          <p:nvPr/>
        </p:nvPicPr>
        <p:blipFill>
          <a:blip r:embed="rId1"/>
          <a:stretch/>
        </p:blipFill>
        <p:spPr>
          <a:xfrm>
            <a:off x="152280" y="3809880"/>
            <a:ext cx="4496040" cy="2781360"/>
          </a:xfrm>
          <a:prstGeom prst="rect">
            <a:avLst/>
          </a:prstGeom>
          <a:ln w="0">
            <a:noFill/>
          </a:ln>
        </p:spPr>
      </p:pic>
      <p:pic>
        <p:nvPicPr>
          <p:cNvPr id="231" name="Content Placeholder 4" descr="grad req selection-YELLOW SLOT.JPG"/>
          <p:cNvPicPr/>
          <p:nvPr/>
        </p:nvPicPr>
        <p:blipFill>
          <a:blip r:embed="rId2"/>
          <a:stretch/>
        </p:blipFill>
        <p:spPr>
          <a:xfrm>
            <a:off x="4724280" y="1219320"/>
            <a:ext cx="3581640" cy="2616120"/>
          </a:xfrm>
          <a:prstGeom prst="rect">
            <a:avLst/>
          </a:prstGeom>
          <a:ln w="0">
            <a:noFill/>
          </a:ln>
        </p:spPr>
      </p:pic>
      <p:cxnSp>
        <p:nvCxnSpPr>
          <p:cNvPr id="232" name="Straight Arrow Connector 16"/>
          <p:cNvCxnSpPr/>
          <p:nvPr/>
        </p:nvCxnSpPr>
        <p:spPr>
          <a:xfrm flipH="1" flipV="1">
            <a:off x="4494960" y="5104800"/>
            <a:ext cx="305640" cy="99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5ffff"/>
                </a:solidFill>
                <a:latin typeface="Arial"/>
              </a:rPr>
              <a:t>Required Courses and Co-Requisites</a:t>
            </a:r>
            <a:endParaRPr b="0" lang="en-US" sz="3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You will return to the Course Planner tab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course you selected and all co-requisites will appea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Content Placeholder 4" descr="Co-requisite.png"/>
          <p:cNvPicPr/>
          <p:nvPr/>
        </p:nvPicPr>
        <p:blipFill>
          <a:blip r:embed="rId1"/>
          <a:stretch/>
        </p:blipFill>
        <p:spPr>
          <a:xfrm>
            <a:off x="2895480" y="2666880"/>
            <a:ext cx="56390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Elective Courses (White Slot)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129492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add an elective course, click the plus ‘+’ icon that appears on the right of any white sl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Content Placeholder 8" descr="Elective selection.JPG"/>
          <p:cNvPicPr/>
          <p:nvPr/>
        </p:nvPicPr>
        <p:blipFill>
          <a:blip r:embed="rId1"/>
          <a:stretch/>
        </p:blipFill>
        <p:spPr>
          <a:xfrm>
            <a:off x="5867280" y="1066680"/>
            <a:ext cx="1600200" cy="2313000"/>
          </a:xfrm>
          <a:prstGeom prst="rect">
            <a:avLst/>
          </a:prstGeom>
          <a:ln w="0">
            <a:noFill/>
          </a:ln>
        </p:spPr>
      </p:pic>
      <p:pic>
        <p:nvPicPr>
          <p:cNvPr id="239" name="Content Placeholder 9" descr="Elective Discipline selection.png"/>
          <p:cNvPicPr/>
          <p:nvPr/>
        </p:nvPicPr>
        <p:blipFill>
          <a:blip r:embed="rId2"/>
          <a:stretch/>
        </p:blipFill>
        <p:spPr>
          <a:xfrm>
            <a:off x="228600" y="3809880"/>
            <a:ext cx="4622760" cy="2514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876560" y="3657240"/>
            <a:ext cx="4267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e sure the View By: is set to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Disciplin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to star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e the drop down menu to explore Discipline typ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f you are a 9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grader, consider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joinin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a CTE or Science Pathway that matches your interes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Elective Course Selection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240" y="11430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over over any course to review the description &amp; prerequisites and note the Grade restriction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lick the plus ‘+’ icon next to the course you want to select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Content Placeholder 6" descr="AME options.png"/>
          <p:cNvPicPr/>
          <p:nvPr/>
        </p:nvPicPr>
        <p:blipFill>
          <a:blip r:embed="rId1"/>
          <a:stretch/>
        </p:blipFill>
        <p:spPr>
          <a:xfrm>
            <a:off x="4648320" y="1219320"/>
            <a:ext cx="4308480" cy="2361960"/>
          </a:xfrm>
          <a:prstGeom prst="rect">
            <a:avLst/>
          </a:prstGeom>
          <a:ln w="0">
            <a:noFill/>
          </a:ln>
        </p:spPr>
      </p:pic>
      <p:pic>
        <p:nvPicPr>
          <p:cNvPr id="244" name="Content Placeholder 10" descr="AME Selection.png"/>
          <p:cNvPicPr/>
          <p:nvPr/>
        </p:nvPicPr>
        <p:blipFill>
          <a:blip r:embed="rId2"/>
          <a:stretch/>
        </p:blipFill>
        <p:spPr>
          <a:xfrm>
            <a:off x="152280" y="3657600"/>
            <a:ext cx="4953240" cy="2819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5181120" y="3733560"/>
            <a:ext cx="3962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You will return to the Course Planner tab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course you selected &amp;  all co-requisites will appea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f you selected a pathway, you should add the corresponding courses to Year 11 and Year 12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ight Arrow 9"/>
          <p:cNvSpPr/>
          <p:nvPr/>
        </p:nvSpPr>
        <p:spPr>
          <a:xfrm>
            <a:off x="8458200" y="2743200"/>
            <a:ext cx="304920" cy="2286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Left Arrow 11"/>
          <p:cNvSpPr/>
          <p:nvPr/>
        </p:nvSpPr>
        <p:spPr>
          <a:xfrm>
            <a:off x="2209680" y="6172200"/>
            <a:ext cx="381240" cy="3049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The BLUE     and RED     Symbol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600" y="1599840"/>
            <a:ext cx="64008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Blue     symbol means there is a WARNING that you must read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over over the blue dot &amp; the note will appea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You have selected a course that you have previously completed. This course will not count as additional credit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Content Placeholder 8" descr="Red Dots, Blue Dots, .png"/>
          <p:cNvPicPr/>
          <p:nvPr/>
        </p:nvPicPr>
        <p:blipFill>
          <a:blip r:embed="rId1"/>
          <a:stretch/>
        </p:blipFill>
        <p:spPr>
          <a:xfrm>
            <a:off x="6781680" y="1752480"/>
            <a:ext cx="2154240" cy="39830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228600" y="4190760"/>
            <a:ext cx="6400800" cy="23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Red     symbol means there is an ALERT that you must read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over over the red dot &amp; the note will appea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You do not have the proper pre-requisite, please select the proper pre-requisite or speak to your counselor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3124080" y="609480"/>
            <a:ext cx="533520" cy="533520"/>
          </a:xfrm>
          <a:prstGeom prst="ellipse">
            <a:avLst/>
          </a:prstGeom>
          <a:solidFill>
            <a:srgbClr val="6797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5867280" y="6094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1828800" y="1676520"/>
            <a:ext cx="228600" cy="228600"/>
          </a:xfrm>
          <a:prstGeom prst="ellipse">
            <a:avLst/>
          </a:prstGeom>
          <a:solidFill>
            <a:srgbClr val="6797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1752480" y="4267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lternate for Elective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5105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r each elective you have selected, you must select an alternate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select your alternates, click the ‘+’ icon on the Alternate slo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Content Placeholder 6" descr="Alternate.png"/>
          <p:cNvPicPr/>
          <p:nvPr/>
        </p:nvPicPr>
        <p:blipFill>
          <a:blip r:embed="rId1"/>
          <a:stretch/>
        </p:blipFill>
        <p:spPr>
          <a:xfrm>
            <a:off x="6172200" y="1447920"/>
            <a:ext cx="2141640" cy="1828800"/>
          </a:xfrm>
          <a:prstGeom prst="rect">
            <a:avLst/>
          </a:prstGeom>
          <a:ln w="0">
            <a:noFill/>
          </a:ln>
        </p:spPr>
      </p:pic>
      <p:pic>
        <p:nvPicPr>
          <p:cNvPr id="259" name="Content Placeholder 8" descr="Alternative Selections.png"/>
          <p:cNvPicPr/>
          <p:nvPr/>
        </p:nvPicPr>
        <p:blipFill>
          <a:blip r:embed="rId2"/>
          <a:stretch/>
        </p:blipFill>
        <p:spPr>
          <a:xfrm>
            <a:off x="304920" y="3505320"/>
            <a:ext cx="4168800" cy="3047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648320" y="373356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lect an alternate course for each elective selection by clicking the ‘+’ icon on the alternative slo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You will have to select the co-requisite to match in the second alternate slo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ight Arrow 7"/>
          <p:cNvSpPr/>
          <p:nvPr/>
        </p:nvSpPr>
        <p:spPr>
          <a:xfrm>
            <a:off x="5791320" y="1752480"/>
            <a:ext cx="533160" cy="304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Georgia"/>
              </a:rPr>
              <a:t>OUR TIME TOGETHER</a:t>
            </a:r>
            <a:endParaRPr b="0" lang="en-US" sz="4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duation Requir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Read Your Transcri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fe After High Sch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Get Into a 4 Year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G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CAA Requirements (Intercollegiate Spor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lege Entrance Ex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se Plan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TE Pathways at EC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ive O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ration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V Guidance Depar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7" descr="C:\Documents and Settings\Vsliwa\Local Settings\Temporary Internet Files\Content.IE5\CUZW7RCY\MC900433842[1].png"/>
          <p:cNvPicPr/>
          <p:nvPr/>
        </p:nvPicPr>
        <p:blipFill>
          <a:blip r:embed="rId1"/>
          <a:stretch/>
        </p:blipFill>
        <p:spPr>
          <a:xfrm>
            <a:off x="6477120" y="1066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Alternates and Red      Alert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600" y="1219320"/>
            <a:ext cx="4648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 Red    Alert symbol will appea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over over the     symbol for instructions. Example: “This course has a co-requisite requirement of G274 Spanish 4C. Please add course or see your counselor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f you add the required course as the next alternate, the Red Alert will disappea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f you do not have the required pre-requisite, add the course or select another alternate cours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lick the SAVE button at the bottom of the pag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4" name="Content Placeholder 9" descr="Alternative - Red Dots.png"/>
          <p:cNvPicPr/>
          <p:nvPr/>
        </p:nvPicPr>
        <p:blipFill>
          <a:blip r:embed="rId1"/>
          <a:stretch/>
        </p:blipFill>
        <p:spPr>
          <a:xfrm>
            <a:off x="4952880" y="2666880"/>
            <a:ext cx="3897360" cy="2286000"/>
          </a:xfrm>
          <a:prstGeom prst="rect">
            <a:avLst/>
          </a:prstGeom>
          <a:ln w="0">
            <a:noFill/>
          </a:ln>
        </p:spPr>
      </p:pic>
      <p:sp>
        <p:nvSpPr>
          <p:cNvPr id="265" name="Oval 10"/>
          <p:cNvSpPr/>
          <p:nvPr/>
        </p:nvSpPr>
        <p:spPr>
          <a:xfrm>
            <a:off x="1447920" y="1295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2590920" y="175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5791320" y="3049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Diploma &amp; Certifications Tab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240" y="1143000"/>
            <a:ext cx="85345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Diploma &amp; Certifications Tab allows you to review graduation requiremen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n the right you can see the credits you have earned, have planned in course planner, as well as those you have remaining to add into course planne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Quick Summary bar allows you to see your progress.         If your cours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planner is complete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for all 4 years, you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should only see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green and yellow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Content Placeholder 6" descr="Diploma &amp; Certifications.png"/>
          <p:cNvPicPr/>
          <p:nvPr/>
        </p:nvPicPr>
        <p:blipFill>
          <a:blip r:embed="rId1"/>
          <a:stretch/>
        </p:blipFill>
        <p:spPr>
          <a:xfrm>
            <a:off x="3124080" y="3352680"/>
            <a:ext cx="5883480" cy="3276720"/>
          </a:xfrm>
          <a:prstGeom prst="rect">
            <a:avLst/>
          </a:prstGeom>
          <a:ln w="0">
            <a:noFill/>
          </a:ln>
        </p:spPr>
      </p:pic>
      <p:sp>
        <p:nvSpPr>
          <p:cNvPr id="271" name="Left Arrow 7"/>
          <p:cNvSpPr/>
          <p:nvPr/>
        </p:nvSpPr>
        <p:spPr>
          <a:xfrm>
            <a:off x="5791320" y="3352680"/>
            <a:ext cx="533160" cy="381240"/>
          </a:xfrm>
          <a:prstGeom prst="leftArrow">
            <a:avLst>
              <a:gd name="adj1" fmla="val 50000"/>
              <a:gd name="adj2" fmla="val 49944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A-G and NCAA Requirement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ing the pull down menu, you can also review your progress in the A-G Requirements as well NCAA Requiremen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Content Placeholder 6" descr="A-G &amp; NCAA Req.png"/>
          <p:cNvPicPr/>
          <p:nvPr/>
        </p:nvPicPr>
        <p:blipFill>
          <a:blip r:embed="rId1"/>
          <a:stretch/>
        </p:blipFill>
        <p:spPr>
          <a:xfrm>
            <a:off x="1676520" y="2133720"/>
            <a:ext cx="5638680" cy="1225440"/>
          </a:xfrm>
          <a:prstGeom prst="rect">
            <a:avLst/>
          </a:prstGeom>
          <a:ln w="0">
            <a:noFill/>
          </a:ln>
        </p:spPr>
      </p:pic>
      <p:pic>
        <p:nvPicPr>
          <p:cNvPr id="275" name="Content Placeholder 7" descr="A-G Requirements.png"/>
          <p:cNvPicPr/>
          <p:nvPr/>
        </p:nvPicPr>
        <p:blipFill>
          <a:blip r:embed="rId2"/>
          <a:stretch/>
        </p:blipFill>
        <p:spPr>
          <a:xfrm>
            <a:off x="1371600" y="3581280"/>
            <a:ext cx="64008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Review, Print &amp; Share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142640"/>
            <a:ext cx="586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lease review your selections with your parent/guardian before your class returns to the guidance offic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view all Red    Alerts and Blue Warning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You can print a draft by clicking the print icon at the top right of the course planne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eel free to continue to plan future years. Don’t worry, all other years are for planning only. Only the dashed year matters right now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Content Placeholder 9" descr="Completed year.png"/>
          <p:cNvPicPr/>
          <p:nvPr/>
        </p:nvPicPr>
        <p:blipFill>
          <a:blip r:embed="rId1"/>
          <a:stretch/>
        </p:blipFill>
        <p:spPr>
          <a:xfrm>
            <a:off x="6858000" y="1143000"/>
            <a:ext cx="1371600" cy="5459400"/>
          </a:xfrm>
          <a:prstGeom prst="rect">
            <a:avLst/>
          </a:prstGeom>
          <a:ln w="0">
            <a:noFill/>
          </a:ln>
        </p:spPr>
      </p:pic>
      <p:sp>
        <p:nvSpPr>
          <p:cNvPr id="279" name="Oval 10"/>
          <p:cNvSpPr/>
          <p:nvPr/>
        </p:nvSpPr>
        <p:spPr>
          <a:xfrm>
            <a:off x="5791320" y="2514600"/>
            <a:ext cx="228600" cy="228600"/>
          </a:xfrm>
          <a:prstGeom prst="ellipse">
            <a:avLst/>
          </a:prstGeom>
          <a:solidFill>
            <a:srgbClr val="6797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3124080" y="2590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Final Review &amp; SUBMI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e sure to review ALL required and elective course offerings and YOUR SELECTION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You can select and remove courses as often as you want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UNTI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you click the SUBMIT button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nce you meet with your counselor, your courses will be locked in and will not be change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3" name="Content Placeholder 4" descr="Submit Button.png"/>
          <p:cNvPicPr/>
          <p:nvPr/>
        </p:nvPicPr>
        <p:blipFill>
          <a:blip r:embed="rId1"/>
          <a:stretch/>
        </p:blipFill>
        <p:spPr>
          <a:xfrm>
            <a:off x="5715000" y="2209680"/>
            <a:ext cx="2948040" cy="2667240"/>
          </a:xfrm>
          <a:prstGeom prst="rect">
            <a:avLst/>
          </a:prstGeom>
          <a:ln w="0">
            <a:noFill/>
          </a:ln>
        </p:spPr>
      </p:pic>
      <p:sp>
        <p:nvSpPr>
          <p:cNvPr id="284" name="Right Arrow 5"/>
          <p:cNvSpPr/>
          <p:nvPr/>
        </p:nvSpPr>
        <p:spPr>
          <a:xfrm>
            <a:off x="5029200" y="3429000"/>
            <a:ext cx="838080" cy="53352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ECV CTE PATHWAY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09480" y="1676520"/>
          <a:ext cx="7925040" cy="2166840"/>
        </p:xfrm>
        <a:graphic>
          <a:graphicData uri="http://schemas.openxmlformats.org/drawingml/2006/table">
            <a:tbl>
              <a:tblPr/>
              <a:tblGrid>
                <a:gridCol w="1371600"/>
                <a:gridCol w="1295640"/>
                <a:gridCol w="1828800"/>
                <a:gridCol w="1844640"/>
                <a:gridCol w="1584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thway Started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2011-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Media - Printing &amp; Graph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Video 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2012-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Art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(recommended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Media - Printing &amp; Graph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Video 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</a:tbl>
          </a:graphicData>
        </a:graphic>
      </p:graphicFrame>
      <p:sp>
        <p:nvSpPr>
          <p:cNvPr id="287" name="TextBox 7"/>
          <p:cNvSpPr/>
          <p:nvPr/>
        </p:nvSpPr>
        <p:spPr>
          <a:xfrm>
            <a:off x="914400" y="11430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ts, Media, &amp; Entertainment (AME) Path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85800" y="4495680"/>
          <a:ext cx="7772400" cy="17989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World Langu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(recommend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Business &amp; Compu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World Langu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(recommend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International Marke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World Langu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(recommend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Virtual Enterpri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  <p:sp>
        <p:nvSpPr>
          <p:cNvPr id="289" name="TextBox 9"/>
          <p:cNvSpPr/>
          <p:nvPr/>
        </p:nvSpPr>
        <p:spPr>
          <a:xfrm>
            <a:off x="914400" y="39625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national Business Path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3"/>
          <p:cNvSpPr/>
          <p:nvPr/>
        </p:nvSpPr>
        <p:spPr>
          <a:xfrm>
            <a:off x="1371600" y="1522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MORE PATHWAY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80880" y="3276720"/>
          <a:ext cx="8382240" cy="1463400"/>
        </p:xfrm>
        <a:graphic>
          <a:graphicData uri="http://schemas.openxmlformats.org/drawingml/2006/table">
            <a:tbl>
              <a:tblPr/>
              <a:tblGrid>
                <a:gridCol w="1908360"/>
                <a:gridCol w="2206440"/>
                <a:gridCol w="2210040"/>
                <a:gridCol w="20574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-Year Commit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ar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pt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Courses can be taken in any 2 year blo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Intro to Fabrication &amp; Wel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Advance Fabrication &amp; Wel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Welding Certifications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(Evening Cours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  <p:sp>
        <p:nvSpPr>
          <p:cNvPr id="292" name="TextBox 5"/>
          <p:cNvSpPr/>
          <p:nvPr/>
        </p:nvSpPr>
        <p:spPr>
          <a:xfrm>
            <a:off x="685800" y="2743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nufacturing &amp; Product Development: Wel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80880" y="1523880"/>
          <a:ext cx="8458200" cy="1011240"/>
        </p:xfrm>
        <a:graphic>
          <a:graphicData uri="http://schemas.openxmlformats.org/drawingml/2006/table">
            <a:tbl>
              <a:tblPr/>
              <a:tblGrid>
                <a:gridCol w="1395360"/>
                <a:gridCol w="1889280"/>
                <a:gridCol w="2217600"/>
                <a:gridCol w="2955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Medical Biol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Medical Chemis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Microbiology/Biotechnolog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Intern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  <p:sp>
        <p:nvSpPr>
          <p:cNvPr id="294" name="TextBox 7"/>
          <p:cNvSpPr/>
          <p:nvPr/>
        </p:nvSpPr>
        <p:spPr>
          <a:xfrm>
            <a:off x="762120" y="9907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omedical Technology  Pathwa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762120" y="49528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spitality Pathway: Restaurant Serv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80880" y="5486400"/>
          <a:ext cx="8382240" cy="990720"/>
        </p:xfrm>
        <a:graphic>
          <a:graphicData uri="http://schemas.openxmlformats.org/drawingml/2006/table">
            <a:tbl>
              <a:tblPr/>
              <a:tblGrid>
                <a:gridCol w="3962520"/>
                <a:gridCol w="2209680"/>
                <a:gridCol w="2210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-Year Commit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ar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Courses can be taken in any 2 year blo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Restaurant Ser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Restaurant Ser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MORE ELECTIVE OP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762120"/>
          <a:ext cx="3657600" cy="228600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SUAL A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Ceramics/3-D Desig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Jewelry/3-D Desig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Photograph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Computer 3D Design &amp; Ani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304920" y="4191120"/>
          <a:ext cx="3657600" cy="243828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FORMING A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Beginning Guit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Choi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Concert/Marching B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Beginning Instru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Theat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4267080" y="762120"/>
          <a:ext cx="4496040" cy="2057400"/>
        </p:xfrm>
        <a:graphic>
          <a:graphicData uri="http://schemas.openxmlformats.org/drawingml/2006/table">
            <a:tbl>
              <a:tblPr/>
              <a:tblGrid>
                <a:gridCol w="44960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RLD LANGUA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Spanis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Spanish for Spanish Speak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Ger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Mandarin Chine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4267080" y="2971800"/>
          <a:ext cx="4496040" cy="3657600"/>
        </p:xfrm>
        <a:graphic>
          <a:graphicData uri="http://schemas.openxmlformats.org/drawingml/2006/table">
            <a:tbl>
              <a:tblPr/>
              <a:tblGrid>
                <a:gridCol w="449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HER EL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AV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Journali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Public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Leadership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Video 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Restaurant Ser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Peer Tu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Teacher Pre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e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Teacher Assistant 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(students w/severe handica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304920" y="3171960"/>
          <a:ext cx="3657600" cy="8665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USTRIAL A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Media (Printing &amp; Graphic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REGISTRATION PROCES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stration Packets distributed late M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e back early Ju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be filled out complet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 pictures for next year will be taken in early Ju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Georgia"/>
              </a:rPr>
              <a:t>WHERE DO I GO FOR HELP?</a:t>
            </a:r>
            <a:endParaRPr b="0" lang="en-US" sz="4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7" name="Picture 16" descr="C:\Documents and Settings\Vsliwa\Local Settings\Temporary Internet Files\Content.IE5\ZZWTU0K4\MC900070852[1].wmf"/>
          <p:cNvPicPr/>
          <p:nvPr/>
        </p:nvPicPr>
        <p:blipFill>
          <a:blip r:embed="rId1"/>
          <a:stretch/>
        </p:blipFill>
        <p:spPr>
          <a:xfrm>
            <a:off x="2895480" y="2895480"/>
            <a:ext cx="3429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GRADUATION REQUIREMENTS</a:t>
            </a:r>
            <a:br>
              <a:rPr sz="2800"/>
            </a:b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85800" y="762120"/>
          <a:ext cx="7772400" cy="4343400"/>
        </p:xfrm>
        <a:graphic>
          <a:graphicData uri="http://schemas.openxmlformats.org/drawingml/2006/table">
            <a:tbl>
              <a:tblPr/>
              <a:tblGrid>
                <a:gridCol w="5308560"/>
                <a:gridCol w="246384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j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qu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 cred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ial Sci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 cred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e Arts or World Langu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cred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hematics (Algebra req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 cred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fe Sci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cred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hysical Sci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cred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chnology Requir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 cred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hysical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 cred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ec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 cred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Text Box 88"/>
          <p:cNvSpPr/>
          <p:nvPr/>
        </p:nvSpPr>
        <p:spPr>
          <a:xfrm>
            <a:off x="685800" y="5257800"/>
            <a:ext cx="7924680" cy="1455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Additional Requirement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reer Plan – Met with Counselor (Post Secondary Pla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lifornia High School Exit Exam (Math/ Englis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tness Gram – required to be enrolled in PE until Fitness Gram is pass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SCHOOL COUNSELOR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0" y="304812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nessa Sliwa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-B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2743200" y="304812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ri Beach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-Ga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5410080" y="3048120"/>
            <a:ext cx="373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ika Stimpert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Gas-K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52280" y="6019920"/>
            <a:ext cx="3353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borah Samson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Km-O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3" name="Picture 7" descr="DSC04948"/>
          <p:cNvPicPr/>
          <p:nvPr/>
        </p:nvPicPr>
        <p:blipFill>
          <a:blip r:embed="rId1"/>
          <a:stretch/>
        </p:blipFill>
        <p:spPr>
          <a:xfrm>
            <a:off x="3809880" y="1143000"/>
            <a:ext cx="1562400" cy="1881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DSC04960"/>
          <p:cNvPicPr/>
          <p:nvPr/>
        </p:nvPicPr>
        <p:blipFill>
          <a:blip r:embed="rId2"/>
          <a:stretch/>
        </p:blipFill>
        <p:spPr>
          <a:xfrm>
            <a:off x="990720" y="4114800"/>
            <a:ext cx="1565280" cy="18813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9"/>
          <p:cNvSpPr/>
          <p:nvPr/>
        </p:nvSpPr>
        <p:spPr>
          <a:xfrm>
            <a:off x="274320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t Udvarhelyi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Om-Sha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6" name="Picture 10" descr="Work Readiness 017"/>
          <p:cNvPicPr/>
          <p:nvPr/>
        </p:nvPicPr>
        <p:blipFill>
          <a:blip r:embed="rId3"/>
          <a:stretch/>
        </p:blipFill>
        <p:spPr>
          <a:xfrm>
            <a:off x="6172200" y="4191120"/>
            <a:ext cx="2286000" cy="172692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11"/>
          <p:cNvSpPr/>
          <p:nvPr/>
        </p:nvSpPr>
        <p:spPr>
          <a:xfrm>
            <a:off x="5334120" y="60199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hanie Pic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ham-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Picture 12" descr="Counselor headshots 004"/>
          <p:cNvPicPr/>
          <p:nvPr/>
        </p:nvPicPr>
        <p:blipFill>
          <a:blip r:embed="rId4"/>
          <a:stretch/>
        </p:blipFill>
        <p:spPr>
          <a:xfrm>
            <a:off x="6095880" y="1295280"/>
            <a:ext cx="2362320" cy="16257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3" descr="Sliwa"/>
          <p:cNvPicPr/>
          <p:nvPr/>
        </p:nvPicPr>
        <p:blipFill>
          <a:blip r:embed="rId5"/>
          <a:stretch/>
        </p:blipFill>
        <p:spPr>
          <a:xfrm>
            <a:off x="914400" y="1143000"/>
            <a:ext cx="1663560" cy="1838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4" descr="Udvarheyli"/>
          <p:cNvPicPr/>
          <p:nvPr/>
        </p:nvPicPr>
        <p:blipFill>
          <a:blip r:embed="rId6"/>
          <a:stretch/>
        </p:blipFill>
        <p:spPr>
          <a:xfrm>
            <a:off x="3505320" y="4114800"/>
            <a:ext cx="2133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372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orgia"/>
              </a:rPr>
              <a:t>GUIDANCE INFORMATION SPECIALISTS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52280" y="312408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enn Recasner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9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1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Grad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7" descr="Work Readiness 022"/>
          <p:cNvPicPr/>
          <p:nvPr/>
        </p:nvPicPr>
        <p:blipFill>
          <a:blip r:embed="rId1"/>
          <a:stretch/>
        </p:blipFill>
        <p:spPr>
          <a:xfrm>
            <a:off x="685800" y="4191120"/>
            <a:ext cx="2743200" cy="18748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8"/>
          <p:cNvSpPr/>
          <p:nvPr/>
        </p:nvSpPr>
        <p:spPr>
          <a:xfrm>
            <a:off x="5181480" y="31147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mberly Rold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Grad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09120" y="837720"/>
            <a:ext cx="40388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6172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lene Am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nglish Language Learner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7" name="Picture 5" descr="Work Readiness 019"/>
          <p:cNvPicPr/>
          <p:nvPr/>
        </p:nvPicPr>
        <p:blipFill>
          <a:blip r:embed="rId2"/>
          <a:stretch/>
        </p:blipFill>
        <p:spPr>
          <a:xfrm>
            <a:off x="838080" y="1143000"/>
            <a:ext cx="2306880" cy="1924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7" descr="MCj04316140000[1]"/>
          <p:cNvPicPr/>
          <p:nvPr/>
        </p:nvPicPr>
        <p:blipFill>
          <a:blip r:embed="rId3"/>
          <a:stretch/>
        </p:blipFill>
        <p:spPr>
          <a:xfrm>
            <a:off x="5943600" y="990720"/>
            <a:ext cx="2209680" cy="2050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7" descr="MCj04316140000[1]"/>
          <p:cNvPicPr/>
          <p:nvPr/>
        </p:nvPicPr>
        <p:blipFill>
          <a:blip r:embed="rId4"/>
          <a:stretch/>
        </p:blipFill>
        <p:spPr>
          <a:xfrm>
            <a:off x="5867280" y="4191120"/>
            <a:ext cx="2362320" cy="1752480"/>
          </a:xfrm>
          <a:prstGeom prst="rect">
            <a:avLst/>
          </a:prstGeom>
          <a:ln w="0">
            <a:noFill/>
          </a:ln>
        </p:spPr>
      </p:pic>
      <p:sp>
        <p:nvSpPr>
          <p:cNvPr id="330" name="TextBox 18"/>
          <p:cNvSpPr/>
          <p:nvPr/>
        </p:nvSpPr>
        <p:spPr>
          <a:xfrm>
            <a:off x="5791320" y="62118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ura Conshaf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ounseling Secreta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COLLEGE &amp; CAREER CENTER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Open EVERYDAY at Lunch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32" name="TextBox 7"/>
          <p:cNvSpPr/>
          <p:nvPr/>
        </p:nvSpPr>
        <p:spPr>
          <a:xfrm>
            <a:off x="685800" y="1828800"/>
            <a:ext cx="754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there to help wit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ge Applica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ancial Aid Ap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larship searc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se Plan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 Secondary Pl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b Ap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cript Review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R . . .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Box 8"/>
          <p:cNvSpPr/>
          <p:nvPr/>
        </p:nvSpPr>
        <p:spPr>
          <a:xfrm>
            <a:off x="228600" y="609588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eel free to just stop in, say hello and eat lunch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4" name="Picture 5" descr="C:\Users\vsee34\AppData\Local\Microsoft\Windows\Temporary Internet Files\Content.IE5\A1I82DI4\MC900232101[1].wmf"/>
          <p:cNvPicPr/>
          <p:nvPr/>
        </p:nvPicPr>
        <p:blipFill>
          <a:blip r:embed="rId1"/>
          <a:stretch/>
        </p:blipFill>
        <p:spPr>
          <a:xfrm>
            <a:off x="228600" y="3657600"/>
            <a:ext cx="1828800" cy="2000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C:\Users\vsee34\AppData\Local\Microsoft\Windows\Temporary Internet Files\Content.IE5\A1I82DI4\MC900037084[1].wmf"/>
          <p:cNvPicPr/>
          <p:nvPr/>
        </p:nvPicPr>
        <p:blipFill>
          <a:blip r:embed="rId2"/>
          <a:stretch/>
        </p:blipFill>
        <p:spPr>
          <a:xfrm>
            <a:off x="7162920" y="1600200"/>
            <a:ext cx="1981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Georgia"/>
              </a:rPr>
              <a:t>QUESTIONS?</a:t>
            </a:r>
            <a:endParaRPr b="0" lang="en-US" sz="66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337" name="Picture 5" descr="C:\Documents and Settings\Vsliwa\Local Settings\Temporary Internet Files\Content.IE5\FJGULNYN\MC900441902[1].wmf"/>
          <p:cNvPicPr/>
          <p:nvPr/>
        </p:nvPicPr>
        <p:blipFill>
          <a:blip r:embed="rId1"/>
          <a:stretch/>
        </p:blipFill>
        <p:spPr>
          <a:xfrm>
            <a:off x="2057400" y="1905120"/>
            <a:ext cx="50292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eorgia"/>
              </a:rPr>
              <a:t>HOW TO READ YOUR TRANSCRIPT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97" name="Content Placeholder 5" descr="Transcript Handout.jpg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LIFE AFTER HIGH SCHOOL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4-year College or Univer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(UC, CSU, private colleges, out of stat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Community Colle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(Grossmont, Cuyamaca, Mesa, City, Southwester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Technical/Trade Schools (Voca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(Culinary, Beauty, Arts, Automotive, etc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Apprentice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Plumbing, Sheet Metal, Electrical, etc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Armed Fo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Navy, Marines, National Guard, Air Force, Army, Coast Guard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7" descr="MCj04283310000[1]"/>
          <p:cNvPicPr/>
          <p:nvPr/>
        </p:nvPicPr>
        <p:blipFill>
          <a:blip r:embed="rId1"/>
          <a:stretch/>
        </p:blipFill>
        <p:spPr>
          <a:xfrm>
            <a:off x="6400800" y="4267080"/>
            <a:ext cx="2743200" cy="2590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4343400" y="3048120"/>
            <a:ext cx="1838160" cy="1523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Users\vsee34\AppData\Local\Microsoft\Windows\Temporary Internet Files\Content.IE5\A1I82DI4\MP900442364[1].jpg"/>
          <p:cNvPicPr/>
          <p:nvPr/>
        </p:nvPicPr>
        <p:blipFill>
          <a:blip r:embed="rId3"/>
          <a:stretch/>
        </p:blipFill>
        <p:spPr>
          <a:xfrm>
            <a:off x="5791320" y="1143000"/>
            <a:ext cx="3200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A-G REQUIREMENTS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(CSU/ UC required)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371600"/>
          <a:ext cx="8153280" cy="4614840"/>
        </p:xfrm>
        <a:graphic>
          <a:graphicData uri="http://schemas.openxmlformats.org/drawingml/2006/table">
            <a:tbl>
              <a:tblPr/>
              <a:tblGrid>
                <a:gridCol w="469800"/>
                <a:gridCol w="3449880"/>
                <a:gridCol w="1960560"/>
                <a:gridCol w="2273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commend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ial Sci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gl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h 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Algebra I, Geometry, Algebra II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b Sci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reign Langu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+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sual/ Performing Ar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y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+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llege Prep El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y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y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183"/>
          <p:cNvSpPr/>
          <p:nvPr/>
        </p:nvSpPr>
        <p:spPr>
          <a:xfrm>
            <a:off x="457200" y="6019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 courses must be at the college prep level or higher and be completed with a grade of “C” or bett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Georgia"/>
              </a:rPr>
              <a:t>NCAA REQUIREMENTS – 2013 &amp; Beyond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(Inter-collegiate Sports)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0880" y="1523880"/>
          <a:ext cx="8077320" cy="3465720"/>
        </p:xfrm>
        <a:graphic>
          <a:graphicData uri="http://schemas.openxmlformats.org/drawingml/2006/table">
            <a:tbl>
              <a:tblPr/>
              <a:tblGrid>
                <a:gridCol w="4462560"/>
                <a:gridCol w="1768320"/>
                <a:gridCol w="18464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e Cour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vision 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vision 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tural/Physical Sci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 Additional English, Math Or Sci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ye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ial Sci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ditional Courses (from any area above, foreign language or nondoctrinal religion/ philosoph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Text Box 94"/>
          <p:cNvSpPr/>
          <p:nvPr/>
        </p:nvSpPr>
        <p:spPr>
          <a:xfrm>
            <a:off x="457200" y="5181480"/>
            <a:ext cx="800100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ge Admissions Tests and GPA Requirement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vision I – a sliding scale for test score and grade point aver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vision II – Minimum SAT is 820; Minimum ACT sum is 6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COLLEGE ENTRANCE EXAM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G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PSAT in Octob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G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PSAT in Octob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SAT in late Sp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ACT in late Sp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SAT Subject tests –  If your universities of interest recommend SAT Subject tests, take it  immediately after completing the cou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G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SAT in early F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ACT in early F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SAT Subject tests –  If your universities of interest require SAT Subject test, take it  immediately after completing the cou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Georgia"/>
              </a:rPr>
              <a:t>UPCOMING TEST DATES 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AT Reasoning and SAT Subjec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 D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st Date:  5/5/1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istration Deadline:  4/6/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st Date:  6/2/1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istration Deadline:  5/8/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 with Writ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 D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st Date:  4/14/1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istration Deadline:  3/9/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st Date:  6/9/1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istration Deadline:  5/4/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ee waiver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available for those who qualify.  See your Counselor in the Guidance Off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20:32:28Z</dcterms:created>
  <dc:creator>Jennifer Rodriguez</dc:creator>
  <dc:description/>
  <dc:language>en-US</dc:language>
  <cp:lastModifiedBy>Mcadwell</cp:lastModifiedBy>
  <dcterms:modified xsi:type="dcterms:W3CDTF">2012-04-11T14:43:34Z</dcterms:modified>
  <cp:revision>178</cp:revision>
  <dc:subject/>
  <dc:title>El Cajon Valley High School</dc:title>
</cp:coreProperties>
</file>